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75F-6DF2-4959-AECA-8C87586F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6A2-A9A2-4EDE-99B9-9C42655F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54D-AF2D-4B6A-BBB4-C7DD8A66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6FF-6EEF-4BAD-9753-AD1C4D5C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894A-0904-4071-8FB1-45E5A6CD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2F2D-B3F6-48B5-91DE-0E5E47F9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78F3-26B0-42E7-B38D-401614E2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643E-2F4B-4CF1-8924-B6F08511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041C-0D67-4B24-803B-0846D3B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49A8-03ED-44C0-B100-CA147DE3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10D9-27F4-4D85-B869-CBB4196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92F-0D69-4DFF-A2B6-6D4238B0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FFE0-AEE8-4602-81EE-B4756BE5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100D-868A-47BC-AC39-CDF06AC2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2CA8-3BE0-4DEF-BE6E-88758451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5E64-8613-4F4F-A18F-C76D8977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F4D4-734A-4EE9-B62D-BBC97282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270-BD2B-4C78-AB5F-9825E48C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641-B0D3-41CB-B3A7-EB2C9C6E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699-0142-4834-9162-459614F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BD5-21AD-46DA-BFBD-2188A477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D9C-7335-40D7-B4E0-EF2CD2A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7FF-8DC2-4950-A5A3-11791025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826-BEBA-4198-B1E0-08ADDCCE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A0A2-86D1-47D4-A035-B8DE37526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203-DA51-43C3-854C-CE00BAFBE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oken B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fracture is a broken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are often vary pai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243828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es In Your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266652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000"/>
                </a:solidFill>
                <a:latin typeface="Arial"/>
              </a:rPr>
              <a:t>There are over 200 bones in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000"/>
                </a:solidFill>
                <a:latin typeface="Arial"/>
              </a:rPr>
              <a:t>Bones protect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000"/>
                </a:solidFill>
                <a:latin typeface="Arial"/>
              </a:rPr>
              <a:t>Bones commonly break because of contact s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5410080"/>
            <a:ext cx="228600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to do about a broken 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4760" y="304776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ll the person not to move the injured 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t a cold pack on the injured 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on medical assistance and keep the arm immobi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720" y="5800680"/>
            <a:ext cx="1164960" cy="1057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2:59:02Z</dcterms:created>
  <dc:creator>Kraybill Campus LMS</dc:creator>
  <dc:description/>
  <dc:language>en-US</dc:language>
  <cp:lastModifiedBy>Kraybill Campus LMS</cp:lastModifiedBy>
  <dcterms:modified xsi:type="dcterms:W3CDTF">2011-05-24T13:11:12Z</dcterms:modified>
  <cp:revision>5</cp:revision>
  <dc:subject/>
  <dc:title>Broken Bones</dc:title>
</cp:coreProperties>
</file>